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6D16-5037-421A-A202-F070EA00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9309-9FF9-443E-A52E-D6D84226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6F2A-EAB2-480C-8A95-F28F5B10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041-57E6-4BAC-B850-2703A356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8E3-5755-436A-A62F-1C66E780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C118-3B30-4C13-9F53-C4EFC1D3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08F9-9990-4E63-8FA9-7C86C746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D799-1513-4469-A656-B8006C43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55EB-9B94-4999-8C15-549560AB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6E8-5068-4E12-B784-416FFA98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4AB-882A-45EB-88F4-1DBA236A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99E0-0010-4A1B-B0F4-54F1A266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6F58-30EB-4E29-AF0E-888FA551F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05920" y="2438280"/>
            <a:ext cx="75960" cy="6858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2438280"/>
            <a:ext cx="76320" cy="6858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685800"/>
            <a:ext cx="7315200" cy="4572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257800"/>
            <a:ext cx="1600200" cy="1143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5257800"/>
            <a:ext cx="68580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5257800"/>
            <a:ext cx="60948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5257800"/>
            <a:ext cx="76212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52578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438280"/>
            <a:ext cx="2666880" cy="28195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ning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2960" y="684360"/>
            <a:ext cx="2587320" cy="1755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t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685800"/>
            <a:ext cx="3429000" cy="2133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ving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3352680"/>
            <a:ext cx="2667240" cy="1905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th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685800"/>
            <a:ext cx="685800" cy="23623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304920"/>
            <a:ext cx="281952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6324480"/>
            <a:ext cx="0" cy="152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6324480"/>
            <a:ext cx="0" cy="228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6324480"/>
            <a:ext cx="0" cy="228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5181480"/>
            <a:ext cx="0" cy="228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5181480"/>
            <a:ext cx="0" cy="228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4191120"/>
            <a:ext cx="3045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3733920"/>
            <a:ext cx="3049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572000"/>
            <a:ext cx="3045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4038480"/>
            <a:ext cx="3049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1752480"/>
            <a:ext cx="3049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2209680"/>
            <a:ext cx="3049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609480"/>
            <a:ext cx="0" cy="3812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32004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32004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22860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22860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2666880"/>
            <a:ext cx="0" cy="3812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2666880"/>
            <a:ext cx="0" cy="3812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609480"/>
            <a:ext cx="0" cy="3812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0120" y="4724280"/>
            <a:ext cx="6858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V-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68580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V-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68580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V-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685800"/>
            <a:ext cx="114300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5600" y="68580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od-Burning 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95680" y="21337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724280" y="21337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343400" y="2057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2209680"/>
            <a:ext cx="457200" cy="8384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V-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72000" y="2057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724280" y="2057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219320"/>
            <a:ext cx="457200" cy="12189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-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124080"/>
            <a:ext cx="457200" cy="10670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-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05920" y="1219320"/>
            <a:ext cx="380880" cy="12189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-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05920" y="3124080"/>
            <a:ext cx="380880" cy="990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-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4800600"/>
            <a:ext cx="60948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05920" y="4724280"/>
            <a:ext cx="60948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2590920"/>
            <a:ext cx="60948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2590920"/>
            <a:ext cx="60948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24680" y="0"/>
            <a:ext cx="121932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V-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610480" y="609480"/>
            <a:ext cx="53352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u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11430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ain 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ll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33520"/>
            <a:ext cx="76320" cy="23619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819520"/>
            <a:ext cx="304920" cy="759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0"/>
            <a:ext cx="6781680" cy="763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609480"/>
            <a:ext cx="152280" cy="763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4191120"/>
            <a:ext cx="7632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4114800"/>
            <a:ext cx="7596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5257800"/>
            <a:ext cx="609840" cy="763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5257800"/>
            <a:ext cx="380880" cy="763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5257800"/>
            <a:ext cx="228600" cy="763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257800"/>
            <a:ext cx="685800" cy="763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6858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V-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4114800"/>
            <a:ext cx="30456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5486400"/>
            <a:ext cx="38124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5410080"/>
            <a:ext cx="30456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5791320"/>
            <a:ext cx="380880" cy="3045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5791320"/>
            <a:ext cx="380880" cy="3045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5791320"/>
            <a:ext cx="380880" cy="3045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5867280"/>
            <a:ext cx="38088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791320"/>
            <a:ext cx="381240" cy="3045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5867280"/>
            <a:ext cx="38088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5867280"/>
            <a:ext cx="38124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5867280"/>
            <a:ext cx="38088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10080"/>
            <a:ext cx="38088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5867280"/>
            <a:ext cx="38088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5486400"/>
            <a:ext cx="38088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5867280"/>
            <a:ext cx="38088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5867280"/>
            <a:ext cx="38124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733920"/>
            <a:ext cx="380880" cy="3045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763120" y="3733920"/>
            <a:ext cx="380880" cy="3045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343400"/>
            <a:ext cx="38124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erisca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erisca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28954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3886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96080" y="3200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6477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114800" y="518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504960" y="4419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352320" y="19051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352320" y="20574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809880" y="533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83808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urb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09480"/>
            <a:ext cx="7315200" cy="4572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5562720"/>
            <a:ext cx="2209680" cy="1295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34320" y="51811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8001000" y="51811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5181480"/>
            <a:ext cx="1600200" cy="1143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lc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228600"/>
            <a:ext cx="198108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33526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3276720"/>
            <a:ext cx="1828800" cy="19047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rcade-Work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Playro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3352680"/>
            <a:ext cx="1371600" cy="18288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-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96080" y="2209680"/>
            <a:ext cx="304920" cy="8384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V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609480"/>
            <a:ext cx="236232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609480"/>
            <a:ext cx="11430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V-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3800" y="1676520"/>
            <a:ext cx="457200" cy="3045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V-He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1219320"/>
            <a:ext cx="1447920" cy="7617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ater Trea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1520" y="609480"/>
            <a:ext cx="60948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V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609480"/>
            <a:ext cx="2895480" cy="19814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ster Bed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590920"/>
            <a:ext cx="380880" cy="14475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038480"/>
            <a:ext cx="2057400" cy="1143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-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2514600"/>
            <a:ext cx="182880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2590920"/>
            <a:ext cx="1828800" cy="25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2590920"/>
            <a:ext cx="762120" cy="1295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n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990720"/>
            <a:ext cx="838080" cy="10666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i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1143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12952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14479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286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2286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228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228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228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228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228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228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228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28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2133720"/>
            <a:ext cx="60948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V-He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6400800"/>
            <a:ext cx="60948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V-He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4724280"/>
            <a:ext cx="60948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V-He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4724280"/>
            <a:ext cx="60948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V-He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50292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2520" y="50292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190512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91520" y="190512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304812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304812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67480" y="32004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96080" y="32004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38862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236232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236232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38862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5146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1219320"/>
            <a:ext cx="3049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914400"/>
            <a:ext cx="3049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3581280"/>
            <a:ext cx="3045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3733920"/>
            <a:ext cx="3045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50292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0292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01000" y="54864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29600" y="54864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77120" y="4648320"/>
            <a:ext cx="3045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800600"/>
            <a:ext cx="3045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457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457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685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5105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2514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2438280"/>
            <a:ext cx="763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428640" y="10666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23888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43800" y="31240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4724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50292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77320" y="5486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905120" y="29718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04920"/>
            <a:ext cx="7315200" cy="4572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5553000"/>
            <a:ext cx="2209680" cy="1295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934320" y="48769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87692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9810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1981080"/>
            <a:ext cx="1600200" cy="1447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3429000"/>
            <a:ext cx="1600200" cy="1447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28800" y="1981080"/>
            <a:ext cx="1600200" cy="1447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1981080"/>
            <a:ext cx="1600200" cy="1447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1981080"/>
            <a:ext cx="1600200" cy="1447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3429000"/>
            <a:ext cx="1600200" cy="1447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3400" y="3429000"/>
            <a:ext cx="1600200" cy="1447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43600" y="3429000"/>
            <a:ext cx="1600200" cy="1447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29000" y="1981080"/>
            <a:ext cx="914400" cy="1447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 CELL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205740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2057400"/>
            <a:ext cx="38124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205740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2057400"/>
            <a:ext cx="38124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205740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05740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205740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05740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52880" y="2057400"/>
            <a:ext cx="38124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205740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19920" y="205740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53080" y="2057400"/>
            <a:ext cx="38124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86600" y="205740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205740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03848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5320" y="403848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403848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4038480"/>
            <a:ext cx="38124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05120" y="403848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403848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4038480"/>
            <a:ext cx="38124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403848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9720" y="403848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403848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19920" y="403848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4038480"/>
            <a:ext cx="38124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86600" y="403848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52880" y="4038480"/>
            <a:ext cx="38124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350532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05120" y="350532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66880" y="350532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81280" y="350532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19720" y="350532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480" y="350532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350532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81680" y="350532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350532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81680" y="29718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19920" y="29718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81480" y="29718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9720" y="29718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05320" y="29718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29718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29718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29718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29718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3200400"/>
            <a:ext cx="335268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 CELL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04920" y="4647960"/>
            <a:ext cx="1522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53341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lack Heat C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34320" y="487692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34320" y="510552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38880" y="48769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51055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96080" y="53341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533412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1520" y="533412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38880" y="64008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38880" y="66294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34320" y="640080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34320" y="624852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34320" y="601992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34320" y="579132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934320" y="556272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43800" y="55627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43800" y="59436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43800" y="61722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43800" y="64008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43800" y="66294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238880" y="57150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238880" y="59436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38880" y="61722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839080" y="64008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839080" y="62485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48720" y="556272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29600" y="55627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534520" y="556272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839080" y="60199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839080" y="57913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839080" y="55627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9600" y="60199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229600" y="57913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534520" y="594360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534520" y="617220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534520" y="640080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534520" y="662940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924680" y="57913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924680" y="61722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924680" y="64008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29600" y="66294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29600" y="62485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924680" y="66294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848720" y="594360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34320" y="6095880"/>
            <a:ext cx="22096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4320" y="6095880"/>
            <a:ext cx="68580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0120" y="6095880"/>
            <a:ext cx="53316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91520" y="6095880"/>
            <a:ext cx="53316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24680" y="6095880"/>
            <a:ext cx="68580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10480" y="6095880"/>
            <a:ext cx="53352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86600" y="6324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5638680"/>
            <a:ext cx="175248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 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304920"/>
            <a:ext cx="30492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609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838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" y="16765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1828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10666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95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14479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304920"/>
            <a:ext cx="30456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304920"/>
            <a:ext cx="30492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304920"/>
            <a:ext cx="30492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28800" y="304920"/>
            <a:ext cx="30492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14600" y="304920"/>
            <a:ext cx="30492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00400" y="304920"/>
            <a:ext cx="30492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304920"/>
            <a:ext cx="30492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304920"/>
            <a:ext cx="30492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304920"/>
            <a:ext cx="30456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04920"/>
            <a:ext cx="30456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00800" y="304920"/>
            <a:ext cx="30492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010280" y="304920"/>
            <a:ext cx="30492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60948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83808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106668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129528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4479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16765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3520" y="18288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0" y="762120"/>
            <a:ext cx="2209680" cy="3045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 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19810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7619760" y="19810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848720" y="46479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754344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43800" y="4724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772400" y="47242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848720" y="4876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229600" y="48006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ion with PV from ro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620120" y="1980720"/>
            <a:ext cx="30456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001000" y="22860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ion to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15328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l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02:09:19Z</dcterms:created>
  <dc:creator>Richard Lee</dc:creator>
  <dc:description/>
  <dc:language>en-US</dc:language>
  <cp:lastModifiedBy>RVCSchools</cp:lastModifiedBy>
  <dcterms:modified xsi:type="dcterms:W3CDTF">2009-09-29T13:09:58Z</dcterms:modified>
  <cp:revision>6</cp:revision>
  <dc:subject/>
  <dc:title>PowerPoint Presentation</dc:title>
</cp:coreProperties>
</file>